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003d"/>
                </a:solidFill>
                <a:latin typeface="Tahoma"/>
              </a:rPr>
              <a:t>Click to move the slide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59D5-41EA-49DD-954D-B3676FB95323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AFFA-6A93-462C-B542-72E1CCF6BA5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4408-5109-4936-A190-683D6EDB711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95C6-9D78-456A-BD95-F846EA8E7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F66F-21FE-42C5-A445-130A2FA31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4EC52-2090-401B-9334-732100650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27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364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27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364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06C3-FC36-4B54-9447-352138EBE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F58D8-7FD3-4414-8394-C25C4C79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55436-E1DF-4878-A0F5-4D8968F5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9E947-9160-4372-9437-82B3D07F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584F7-D642-40AE-B336-8C91EBEB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EF91A-F4CD-4C79-8B2A-4BE08E7C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90640" y="188640"/>
            <a:ext cx="70660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94725-4634-483D-ABC8-71756803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72595-F671-4369-A9A9-2B1DC557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CE9B-C1DE-421F-954F-2C6D03568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74588-4504-4711-B8D1-B1159FC0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AB895-D606-4C8F-A7F4-68D896FB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07BE2-F17C-4F7C-88FF-02D4CFD5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93D68-C33D-4FB5-BF4F-BFEA9544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27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5364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27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5364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13CB9-4C36-4F7B-9F98-E4E9A32C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6F21-1365-4B30-8515-8929BAD12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79D2-4D2E-4B2D-A00C-A1EBE05F6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1FF20-D9DA-4D0C-876B-A52EAE165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90640" y="188640"/>
            <a:ext cx="70660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F1E8-828C-4D8E-BD9A-4C0AAA250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A82E-364D-47CA-A593-E61EC2690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A522-0727-4E20-BC46-16F1C944F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4F52-D736-452A-8C33-19E961CD3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OI-logo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00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0"/>
            <a:ext cx="108000" cy="6873840"/>
          </a:xfrm>
          <a:prstGeom prst="rect">
            <a:avLst/>
          </a:prstGeom>
          <a:solidFill>
            <a:srgbClr val="ce0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08000" y="0"/>
            <a:ext cx="718920" cy="687384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003d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2656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7200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ce003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80AA-90D5-40B5-A581-1E07DEC4A0C8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826920" y="907920"/>
            <a:ext cx="8317080" cy="7164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2205000"/>
            <a:ext cx="9144000" cy="374508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FOI-logo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0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003d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ce003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8E5C-E997-4780-9442-B87EB2EAAECE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28036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ce003d"/>
                </a:solidFill>
                <a:latin typeface="Tahoma"/>
              </a:rPr>
              <a:t>Uvod u novi Zakon o javnoj nabavi</a:t>
            </a:r>
            <a:br>
              <a:rPr sz="3000"/>
            </a:br>
            <a:endParaRPr b="0" lang="en-US" sz="30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Tahoma"/>
              </a:rPr>
              <a:t>Mirjana Čusek-Slunjski, dipl.i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Tahoma"/>
              </a:rPr>
              <a:t>Pravna zašt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F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02.02.201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Nedostavljanje dokaza o uplati naknade za pokretanje žalbenog postupka-čl.169.st.4.i 5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Uz žalbu nije dostavljen dokaz o upla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KOM poziva žalitelja na uplatu naknade za pokretanje žalbenog postupka u propisanom izno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k ne smije biti duži od 5 d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bacivanje žalbe kao neuredne u slučaju da se ne postupi po nalogu DKOM-a i ne dostavi dokaz o izvršenoj upl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6E24-9E7C-48AB-9A5F-B6D728341966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Troškovi žalbenog postupka-čl.170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 troškovim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dlučuje DK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vaka stranka prethodno snosi troškove uzrokovane svojim radnj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Žalitelj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ema pravo na naknadu troško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ustanak od žalbe, odbijena ili odbačena žal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tranka na čiju je štetu žalbeni postupak okončan dužna je protivnoj stranci nadoknaditi opravdane troškove koji su joj nastali sudjelovanjem u žalbenom postup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AB33-2E9D-4FF8-9311-F168BC33A6F0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Djelomično usvajanje žalbe-čl.170.st.5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KOM može odlučiti 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vaka stranka snosi svoje trošk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e troškovi žalbenog postupka podijele na jednake dijel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e podijele razmjerno usvajanju žal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BD9D-24E5-47FF-97E5-0637F9F15662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Usvajanje žalbe-čl.170.st.6. i zahtjev iz st.7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KOM odlukom će naložiti naručitelj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laćanje troškova žalbenog postupka žalitel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k od 8 dana od dana primitka odluke DKOM-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žalb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mož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adržavati zahtjev za naknadom troškova žalbenog postupka koji mora biti određen i dostavljen DKOM-u prije donošenja odlu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1126-0F4F-4712-BB7B-6E9A3F31EB86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Odučivanje i dostava odluka-čl.171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DKO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luku donosi u roku od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30 dan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 dana kompletiranja dokumentacije žalbenog predm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luke dostavlj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javnom objavom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na internetskim stranicama DKOM-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stava se smatra obavljenom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8 dan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 dana javne obj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znimno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ako ocijeni da postoje opravdani razlozi, DKOM će dostavu odluke izvršiti preporučenom poštanskom pošiljkom ili na drugi dokaziv nač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AB6B-8A7D-4ECB-A55A-1B0C3CE51A4B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Sudska zaštita i građanskopravne odredbe-čl.173.do176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otiv odluke DKOM-a može se pokrenut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upravni spor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d nadležnim upravnim su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stupak po upravnoj tužbi u predmetu javne nabav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žurne je nara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knada štete pred nadležnim sudom prem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pćim propisima o naknadi št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ištetan je ugovor koji je sklopljen protivno odredbi čl.13.(sukob intere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B560-EB66-4FBB-8ACB-7E06570B95B8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ekršajne odredbe-nove-čl.182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dviđeno 15 prekršaja od kojih j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7 novih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klapanje ugovora o javnoj nabavi suprotno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dredbi čl. 13. Zakona (sukob intere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ijeljenje vrijednosti radova ili određene količine robe i/ili usluga s namjerom izbjegavanja primjene zakona ili pravila koja vrijede prema procijenjenoj vrijednosti nabave(čl.18.st.10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opuštanje dostave Upravi za sustav javne nabave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atke o internetskim stranicama na kojima je objavljen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lan nabave te svaku kasniju izmjenu tih podataka(čl.20.st.6.) ili propuštanje dostave u elektroničkom obliku plana nabave/izmjena (čl.20.st.7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3BA7-241A-4373-BBF7-C52CF8F5236E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ekršajne odredbe-nove-čl.182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naručitelj ne dostavi nakon prve objave registra ugovora o javnoj nabavi i okvirnih sporazuma Upravi za sustav javne nabave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atke o internetskim stranicama na kojima je objavljen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egistar te svaku kasniju izmjenu tih podataka(čl.21.st.5.) ili propuštanje svakih 6 mjeseci u elektroničkom obliku ažuriranih registara ugovora o javnoj nabavi i okvirnih sporazuma(čl.21.st.6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ko u pripremi i provedbi postupka javne nabave n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udjeluje najmanje jedan ovlašteni predstavnik naručitelja koji posjeduje važeći certifikat u području javne nabave(čl.24.st.2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F562-ABBE-416E-B8DB-C6273FD8DAFB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ekršajne odredbe-nove-čl.182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6. ako naručitelj sklopi ugovor o javnoj nabavi ili okvirni sporazum s ponuditeljem kojeg je morao isključiti iz postupka javne nabave odnosno čiju je ponudu bio obvezan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dbiti na osnovi rezultata pregleda i ocjene ponu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naručitelj ne pošalje obavijest o sklopljenom ugovoru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li obavijest o rezultatima natječaja(čl.60. i čl.125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5833-567B-47AC-B1EE-D4F8C4360861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ekršajne odredbe-novčane kazne</a:t>
            </a:r>
            <a:br>
              <a:rPr sz="2400"/>
            </a:b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 čl.182.st.1.i st.2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00000" y="2492280"/>
          <a:ext cx="7993080" cy="2781360"/>
        </p:xfrm>
        <a:graphic>
          <a:graphicData uri="http://schemas.openxmlformats.org/drawingml/2006/table">
            <a:tbl>
              <a:tblPr/>
              <a:tblGrid>
                <a:gridCol w="3961080"/>
                <a:gridCol w="4032000"/>
              </a:tblGrid>
              <a:tr h="20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ravna osoba/jedinica lokalne  i područne(regional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amoupr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Odgovorna osoba u pravnoj osobi ili odgovorna  osoba u državnom tijelu ili u jedinici lokalne i područne (regionalne)samoupr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.000.00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000,00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0.000,00 k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.000,00 k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041B-652A-4598-9F1C-395BD93F0A53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5EDE-6DEE-4D72-9246-0994D929D77B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e003d"/>
                </a:solidFill>
                <a:latin typeface="Tahoma"/>
              </a:rPr>
              <a:t>Pravna zaštit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NOVA RJEŠENJA u Zakonu o javnoj nabavi(NN 90/11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ahoma"/>
              </a:rPr>
              <a:t>Čl. 138. do 17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ubrzanje postupaka javne nabave pred Državnom komisijom za kontrolu postupaka javne nabave (DKO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Zastara – čl. 18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kršajni postupak ne može se pokrenuti nakon protek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godine od dana počinjenja prekrša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psolutna zastara nastupa kada protekn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dvostruko vrijem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 dana počinjenja prekrša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9DE7-6008-4E8A-A595-9B4D8D1DE99F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Ovlasti DKOM-a i bitne povrede-čl.144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KOM postupa u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granicama žalbenih navo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 službenoj dužnosti DKOM pazi na bitnu povredu koja je počinjena u fazi postupka u kojoj je žalba izjavlj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1 bitna povre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ako naručitelj nije primijenio ili je nepravilno primije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koju odredbu izvora prava, što je bilo od utjecaja 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zakonitost postupka, a za koju žalitelj nije znao niti mog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znati u trenutku izjavljivanja žal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Izvori prava: ustav, provedbeni propisi zakona i s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BB73-489C-4BAB-8AD0-13E732D1986C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Izjavljivanje žalbe-čl.145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žalba s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zjavljuj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 predaje izravno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žavnoj komisiji za kontrolu postupaka javne nabave (DKO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mjerak žalbe, žalitelj je obvezan dostaviti i naručitelju na dokaziv nač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žalba koja nije dostavljena naručitelju smatrat će se nepravodobnom žalb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avodobnost žalbe utvrđuje DK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EDE3-0EBD-4B8E-849F-E8F743924ACD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Ukidanje ovlasti naručitelj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viš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eće imati ovlaštenj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je mu sada daje čl. 153.st.1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...ako nakon zaprimanja žalbe naručitelj nađe da je ona djelomično ili u cijelosti osnovana može, ispraviti radnju, poduzeti činjenje, ili može postojeću odluku staviti izvan snage i zamijeniti je drugom odlukom, ili poništiti postupak javne nabave te o tome obavijestiti sudionike postupka na način određen zakonom u roku pet dana od primitka žal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AD52-7ACA-4961-98EC-47C4C353D4BF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Rokovi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mjena vremenskih okvira za ulaganje žalbe na određene faze postup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Čl.146.do 153. Zako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DADF-4FCD-44F1-B748-840CD868DC01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Žalba na dokumentaciju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mještanje faze izjavljivanja žalbe na dokumentaciju za nadmetanje iz faze nakon otvaranja ponuda na fazu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ije javnog otvaranja ponu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žalba na sadržaj DZN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u otvorenom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ostupku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javne nabave prema novome Zakonu ulagati će se u roku 10/5 dan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d dana objave poziva na nadmetanje 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kumentaci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va izmjena omogućava da se nepravilnosti utvr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e u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okumentaciji za nadmetanje uklone na vrijeme kada je još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guće nastaviti i dovršiti postupak javne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ada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žalba na DZN tek nakon otvaranja ponu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F3F5-1FAF-49A3-9303-CD9B4A2C0E53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Žalba na dokumentaciju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 slučaju kada je izjavljena žalb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ZN naručitelj je, po primitku primjerka žalbe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bvezan bez odgađanja na isti način i na istim internetskim stranicama na kojima je objavljena osnovna dokumentacija z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dmetanje,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bjaviti informaciju da je izjavljena žalba i d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e zaustavlja postupak javne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bjava informacije o izjavljenoj žalbi omogućava svim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S koji su preuzeli DZN  pravodobno i automatsko zaprimanje informacije da je u tijeku žalbeni postupak te da se zaustavlja postupak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javne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žalba izjavljena protiv DZN im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uspenzivni učinak,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j. sprječava nastavak postupka javne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bave za sve grupe predmeta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47A9-1B2A-4CE0-9E5A-D40CDE43024E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Žalba na dokumentaciju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žalbenom postupku DKOM može, između ostalog, poništit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dluku, postupak ili radnju u dijelu u kojem su zahvaćen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zakonitošću, uključujući diskriminirajuće tehničke,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inancijske i druge odredbe iz poziva na nadmetanje, DZN ili ostale dokumentacije u vezi s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stupkom javne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žalba na DZN neće više nužno završavati poništenjem cijeloga postupka već samo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ništenjem određenih odredbi DZN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koliko DKOM ocijeni žalbu osnovan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DFFB-C38E-49DE-8FA3-FC5ADC734616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Žalba na dokumentaciju-čl.157.st.2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KOM odbije/odbaci/obustavi žalbeni postupak naručitelj mora objavi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spravak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ziva za nadmetanje i ako je potrebno DZ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drediti novi rok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 dostavu ponu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k za dostavu ponuda obvezno iznosi namjanje onoliko dana koliko je preostalo od dana izjavljene žalbe do isteka prvotno određenog roka za dostavu ponu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 ispravak poziva na nadmetanje i DZN žalba nije dopušt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4F1B-8CE3-4840-9A36-1CBA58475FF4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Žalba na dokumentaciju-čl.157.st.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KOM usvoji žalbu, naručitelj ovisno o sadržaju odluke i uvažavajući obrazloženje odlu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ovesti novi postupak j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astaviti postupak javne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B0A7-B6D2-49A8-B454-351DB3F5C29A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Niz izmjena...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avo na žalbu (aktivna legitimacij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javljivanje žal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kovi za izjavljivanje žal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knada za pokretanje žalbenog postup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spenzivni učinak žal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graničenje bitnih povreda zako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vremena mje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ništenje ugovora ili okvirnog sporazu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ovčana kazna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421E-2160-4EEC-BA15-98FC8DE4BF6E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Žalba na dokumentaciju-čl.157.st.4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U slučaju nastavka postupka naručitelj je obvez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bjaviti ispravak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ziva na nadmetanje i izmjenu dokumentacije u dijelu u kojem je zahvaćena nezakonitošć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drediti novi rok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 dostavu ponuda koji iznosi najmanje onoliko dana koliko je preostalo od dana izjavljene žalbe do isteka prvotno određenog roka za dostavu ponu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4508-26AB-4AB2-B846-1354DE24D148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onuda pristigla u tijeku žalbenog postupka-čl.157.st.5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nuda pristigla prije prvotno određenog roka za dostavu ponuda i za vrijeme trajanja žalbenog postup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j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bvezan bez odgađanj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primljenu ponudu vratiti neotvorenu 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z obavijest da je u tijeku žalbeni postupak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e da će se možebitno odrediti dodatni rok za dostavu ponuda, ovisno o ishodu žalbenog postup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E907-503A-44BE-BDA5-C42A068B83D7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57.st.6. novog Zakon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nimno, naručitelj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ije u obvezi objaviti informaciju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 je izjavljena žalba na DZN u otovrenom postupku jn u slučaju da je primjerak žalbe na DZN ili izmjenu DZN dostavljen naručitelju nakon isteka roka od 15/10 dana od dana od kojeg se računa rok za izjavljivanje žalbe sukladno čl. 146. Zako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smije nastaviti postupak javne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 smije donijeti odluku o odabiru ili odluku o poništenju prije dostave odluke DKOM-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655C-0EF6-469B-A20E-2A8196A72F53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57.st.7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DKOM u prethodnom slučaju (čl.157.st.6.) usvoji žalb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mora provesti novi postupak javne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494C-D7A9-43F2-A464-31A798CBB83B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ostupanje naručitelja u vezi sa žalbom-čl.154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je obvezan odmah, a najkasnije u roku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5 dan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d primitka žalbe dostaviti DKOM-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1.  žalbu s podatkom i dokazom o načinu i vremenu dostav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2. odgovor na žalbu s očitovanjem o žalbenom navodu i o žalbenom zahtjevu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3. dokumentaciju koja se odnosi na postupak javne nabave s popisom prilog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0B39-5B75-4BA1-9284-13C1317162F4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ostupanje naručitelja u vezi sa žalbom-čl.154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4. podatak o objavi informacije u skladu s člankom 157. stavkom 1. ili člankom 158. stavkom 6. Zakona, ili dokaz o obavještavanju odabranih natjecatelja u skladu s člankom 158. stavkom 1. Zakon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5. druge dokaze na okolnosti postojanja pretpostavki za donošenje zakonite odluke, radnji, propuštanja ili postupa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7659-01EF-4B0D-A6D6-ED0A1849311A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ozivanje naručitelja-čl.155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naručitelj ne postupi u skladu s člankom 154. DKOM će bez odgađanja pozvati naručitelja na dostavu dokumentacije uz upozorenje na pravne posljedice ako to ne učini u roku koji ne smije biti dulji od 5 d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naručitelj nakon poziva ne dostavi zatraženu dokumentaciju u ostavljenom roku, DKOM će poništitI postupak javne nabave ili postupiti u skladu s člancima 167. (poništiti ugovor o javnoj nabavi ili okvirni sporazum) i 168. (novčane kaz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C0FF-887C-45A5-B1A5-3BFDB4262AC7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Izvješćivanje odabranog ponuditelja i natjecatelja-čl.156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 postojanju žalbenog postupka DKOM bez odgađanja izvješćuje odabranog ponuditelja i natjecatelja ako on postoji u fazi u kojoj je izjavljena žal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abrani ponuditelj i natjecatelj može u ostavljenom roku dostaviti DKOM-u svoje očitovanje na žalb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A253-5B8A-4997-BCC4-05A081E10BF2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Sprečavanje postupka jn ili nastanka ugovora o jn i okvirnog sporazuma – čl. 161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Žalba izjavljena protiv DZN/izmjene dokumentacij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prječava nastavak postupka jn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 sve grupe predmeta, osim kada je predmet nabave podijeljen na grupe za koje je moguće podnošenje ponu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Žalba izjavljena protiv odluke o odabiru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prječava nastanak ugovor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 javnoj nabavi/okvirnog sporazu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F8D8-3556-4858-A668-A35D3196F9F3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Sprečavanje postupka jn ili nastanka ugovora o jn i okvirnog sporazuma – čl. 161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Žalba izjavljena protiv prethodne obavijesti o namjeri sklapanja ugovor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prječava nastanak ugovor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 javnoj nabavi za sve grupe predmeta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ostalim slučajevima izjavljena žalba ne sprječava nastavak postupka javne nabave, provedbu novoga postupka javne nabave, nastanak ugovora o javnoj nabavi odnosno nastanak okvirnog sporazuma, osim u slučaju kada DKOM na temelju prijedloga žalitelja odredi privremenu mje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A8E1-0B08-42D3-BDC7-5E9A1877A0EE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avo na žalbu(aktivna legitimacija)-čl.141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Fizička oso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avna oso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jednica fizičkih i/ili pravnih oso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koja ima ili je imala pravni interes za dobivanje određenog ugovora o jn ili okvirnog sporazuma i koja je pretrpjela ili bi mogla pretrpjeti štetu od navodnog kršenja subjektivnih pr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redišnje tijelo državne uprave za sustav javne nabav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dležno državno odvjetništ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2C0D-FC4A-476B-AA5B-AAE461BA5EAE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Zahtjev za odobrenjem nastavka postupka jn i/ili sklapanja ugovora o jn-čl.162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slučaju izjavljenje žalbe koja sprječava nastavak postupka jn/nastanak ugovora o jn/nastanak okvirnog sporazu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 može postavit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zahtjev za odobrenjem nastavk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stupka jn/nastanak ugovora o jn/nastanak okvirnog sporazuma za predmet ili dio predmeta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CB13-6AEB-4DC6-9B16-32C8B882B1F5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Zahtjev za odobrenjem nastavka postupka jn i/ili sklapanja ugovora o jn-čl.162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z razlog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gućeg nastanka štete koja je nerazmjerno veća od vrijednosti predmeta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štite javnog interes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žurnosti nabave te rad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gućeg ugrožavanja života i zdravlja ljudi ili zbog drugih ozbiljnih opasnosti ili mogućih št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D00B-9A37-42DA-91D4-116E18119469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Zahtjev za odobrenjem nastavka postupka jn i/ili sklapanja ugovora o jn-čl.162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zahtjevu naručitelj mora dokazati ili učiniti vjerojatnim postojanje okolnosti na kojima temelji svoj zahtj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htjev se može podnijeti do donošenja rješenje DKOM-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DKO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ma rok od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10 dan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 zaprimanja zahtjeva  za donošenje odluke o zahtjevu, 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 utvrđenog opravdanog razloga mož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dgodit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onošenje odluke do odlučivanja o glavnoj stv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6621-8D9D-4BE5-BE3A-4A29CFAAC6F3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ivremene mjere-čl.16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Žalitelj može,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uz žalbu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ja ne sprječava nastavak postupka javne nabave, nastanak ugovora o javnoj nabavi odnosno nastanak okvirnog sporazuma, podnijet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ijedlog za određivanje privremene mjer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 ciljem pravodobnog ispravljanja navodnog kršenja Zakona ili sprječavanja nastanka št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prijedlogu za određivanje privremene mjere žalitelj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mora dokazati ili učiniti vjerojatnim postojanje okolnosti na kojima temelji svoj prijed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7D69-D0B5-49FE-B4F5-0DB1D988F70A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ivremene mjere-čl.16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dmet prijedloga za određivanje privremene mj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že biti sprječavan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1. nastavka postupka javne nabave, 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2. donošenja ili provedbe odluke ili radnje naručitelja, 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3. nastanka i/ili izvršavanja ugovora o javnoj nabavi ili okvirnog sporazuma, 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4. provedbe novog postupka javne nabave za isti ili sličan predmet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0173-544A-4C9C-AD7B-25D669536BEA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ivremene mjere-čl.16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KOM će odluku o prijedlogu za određivanje privremene mjere donijeti u roku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10 dan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 dana urednosti sp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pis će se smatrati urednim kada sadrži sve dokumente i dokaze na temelju kojih se, prema ocjeni DKOM-a može donijeti pravovaljana odlu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ješenjem kojim se određuje privremena mjera odredit će se i njezino vremensko traj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259C-D856-4FC6-99F7-867929E67C0F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ivremene mjere-čl.16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KOM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može odbiti prijedlog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 određivanje privremene mjere ukoliko ocijeni da bi negativne posljedice privremene mjere nadmašile njenu kor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žalitelj uz žalbu ne podnese prijedlog za određivanje privremene mjere ili DKOM odbije prijedlog za određivanje privremene mjere, predmetni postupak javne nabave nastavlja se, ugovor o javnoj nabavi odnosno okvirni sporazum, mogu se sklopiti ili izvršav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ijedlog za određivanje privremene mjere mora biti podnesen uz žalbu ili će se u protivnom odbac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EE6A-7FC5-4892-994C-364337B4EB30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Usmena rasprava-čl.166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Mogu predložiti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trank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(obrazložiti razloge zbog kojih raspravu predlaž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DKOM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(kada sama utvrd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.... da je to potrebno zbog razjašnjenja složenoga činjeničnog stanja ili pravnog pitanj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 tijeku usmene rasprave vodi se zapisn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smena rasprava je jav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Javnost može biti isključena zbog potrebe čuvanja taj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843B-3496-42B2-84B1-75B46ED15032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oništenje ugovora o javnoj nabavi ili okvirnog sporazuma-čl.167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KOM  će u žalbenom postupku poništiti ugovor o javnoj nabavi ili okvirni sporazum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u cijelosti ili djelomično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ako je naručitelj sklop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1. ugovor o jn odnosno okvirni sporazum bez prethodno provedenog postupka javne nabave kada je to u suprotnosti s odredbama Zakon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2. ugovor o jn odnosno okvirni sporazum, za vrijeme roka mirovanja kada se on morao primijeniti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3. Kada je ugovor o jn odnosno okvirni sporazum sklopljen za vrijeme žalbenog postupka u kojem žalba ima suspenzivan učin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CCB5-6D8E-45C4-9B14-1973DE599065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oništenje ugovora o javnoj nabavi ili okvirnog sporazuma-čl.167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4. kada je ugovor o jn odnosno okvirni sporazum sklopljen za vrijeme trajanja žalbenog postupka u kojem je DKOM odredila privremenu mje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5. ugovor o jn na temelju okvirnog sporazuma u suprotnosti sa postupcima za sklapanje ugovora određenim u čl. 39. st. 3. i 5. Zako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513E-EA28-43F4-9128-A0EF0DA004B5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Nadležnost za rješavanje žalbi-čl.138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žavna komisija za kontrolu postupaka javne nabave (DKOM) nadležna je za rješavanje o žalbama u vezi s postupcima sklapanja ugovora o javnoj nabavi, okvirnih sporazuma i natječaja na koje se primjenjuje Zakon o javnoj naba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dležnost i druga pitanja vezana za rad Državne komisije uređuju se posebnim zakon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CB2B-B6D0-45F7-B437-5477C77EF5A3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oništenje ugovora o javnoj nabavi ili okvirnog sporazuma-čl.167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KOM mož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ništiti ugovor o jn odnosno okvirni sporazum uključujući i sve njegove pravne posljedic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d trenutka njegova nastank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i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ništiti ugovor odnosno okvirni sporazum samo u odnosu na one ugovorne obveze koj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još nisu ispunj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0F6C-5500-4B0D-848F-844967008C0E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oništenje ugovora o javnoj nabavi ili okvirnog sporazuma-čl.167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KOM može donijeti odluku kojom sklopljeni ugovor o jn ili okvirni sporazum ostaje na snazi u cijelosti ili djelomično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ako je sklopljen u suprotnost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a čl.167.st. 1. Zakona ako, uzimajući u obzir sve relevantne okolnosti, utvrdi 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vladavajući razlozi u vezi s općim interesom zahtijevaju da učinci ugovora trebaju ostati na snaz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D397-E3FB-46E6-A430-77148A22856B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oništenje ugovora o javnoj nabavi ili okvirnog sporazuma-čl.167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konomski interesi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mogu se smatrat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evladavajućim razlozima samo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u iznimnim okolnostim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ada bi poništenje ugovora dovelo do nerazmjernih posljed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e priznaju se kao opravdajući razloz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roškovi zbog zakašnjenja u izvršenju ugovor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roškovi provedbe novoga postupka javne nabav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roškovi koji mogu nastati zbog promjene gospodarskog subjekta koji izvršava ugovor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roškovi pravnih obveza koje su rezultat poništenja ugovora o 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CED6-19BD-4555-9327-D44FC0B8D601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NOVI INSTITUT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OVČANE KAZNE-čl.168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DKOM  odlukom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ređuje iznos novčane kazne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ok u kojem ju je naručitelj obvezan plat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ovčana kazna određuje se razmjerno ispunjenju djelomično poništenog ugovora o javnoj nabavi, preostalim ugovornim obvezama koje još nisu ispunjene, odnosno cijelom ugovoru čije se sklapanje ili izvršenje odobrava, a može se izreć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u iznosu od 10% do 20% vrijednosti ugov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F826-2CAD-41A9-8F7D-8C7371235D6F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Novčane kazne-čl.168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ada se određu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1.) Čl.168.st.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DKOM sukladno članku 167. stavku 2. Zakona poništi ugovor odnosno okvirni sporazum samo u odnosu na one ugovorne obveze koje još nisu ispunjene, ili donese odluku sukladno članku 167. stavku 3. Zakona, odlukom će odrediti novčanu kaznu naručitel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313-75C2-47CF-9993-8D6D8BDE848E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Novčane kazne-čl.168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ada se određu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2.) Čl.168.st.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DKOM odbije prijedlog za određivanje privremene mjere sukladno članku 163. Zakona, ili odobri nastavak postupka javne nabave odnosno sklapanje ugovora o javnoj nabavi ili okvirnog sporazuma sukladno članku 162. Zakona, tada ovisno o odluci o glavnoj stvari može odrediti novčanu kaznu naručitel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03D8-9EAF-4F13-90BD-1DBA34554E10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ZAHVALJUJEM NA PAŽNJI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pic>
        <p:nvPicPr>
          <p:cNvPr id="313" name="Content Placeholder 9" descr="PB250037.JPG"/>
          <p:cNvPicPr/>
          <p:nvPr/>
        </p:nvPicPr>
        <p:blipFill>
          <a:blip r:embed="rId1"/>
          <a:stretch/>
        </p:blipFill>
        <p:spPr>
          <a:xfrm>
            <a:off x="1571760" y="1197000"/>
            <a:ext cx="6721200" cy="5040360"/>
          </a:xfrm>
          <a:prstGeom prst="rect">
            <a:avLst/>
          </a:prstGeom>
          <a:ln w="0">
            <a:noFill/>
          </a:ln>
        </p:spPr>
      </p:pic>
      <p:sp>
        <p:nvSpPr>
          <p:cNvPr id="31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8527-EB9A-4A99-941D-12FD40F9A145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Sadržaj žalbe - čl.159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Žalba obvezno sadrži sljedeće podatke i doka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1. podatke o žalitelju (ime i prezime, adresa prebivališta – kada se radi o fizičkoj osobi – građaninu, naziv tvrtke i adresa sjedišta – kada se radi o pravnoj i fizičkoj osobi, odnosno odgovarajuće podatke o svakom subjektu koji čini zajednicu fizičkih i/ili pravnih osob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2. podatke o zastupniku ili punomoćniku, s priloženom valjanom punomoć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3. naziv i sjedište naručitel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4. predmet žal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5. broj obj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DFAD-1976-497F-891A-CAB47020BD39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Sadržaj žalbe.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6. žalbeni navod (opis nepravilnosti i obrazložen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7. doka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8. žalbeni zahtje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9. dokaz o uplati naknade za pokretanje žalbenog postupka, osim u slučaju iz članka 169. stavka 6. Zako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10. potpis odnosno potpis i žig ovlaštene osobe, uz navod imena i prezimena odnosno naziva tvrtke i ovlaštene osobe, ispisan i tiskanim slov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2D4D-B70F-4F4F-BC48-6044FE71ACCF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ovećanje naknade za pokretanje žalbenog postupka-čl.169.st.1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00000" y="1197000"/>
          <a:ext cx="8064720" cy="4211640"/>
        </p:xfrm>
        <a:graphic>
          <a:graphicData uri="http://schemas.openxmlformats.org/drawingml/2006/table">
            <a:tbl>
              <a:tblPr/>
              <a:tblGrid>
                <a:gridCol w="4032360"/>
                <a:gridCol w="403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Procijenjena vrijednost (H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70c0"/>
                          </a:solidFill>
                          <a:latin typeface="Tahoma"/>
                        </a:rPr>
                        <a:t>Iznos naknade (H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 500.000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dnaka ili veća 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0.000,00 do 1.000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dnaka ili veća 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0.000,00 do 3.000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dnaka ili veća 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0.000,00 do 5.000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dnaka ili veća 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0.000,00 do 10.000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dnaka ili veća 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000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8187-3970-47DA-9FD5-15A5A2EC4A1F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ovećanje naknade za pokretanje žalbenog postupka-čl.169.st.2.i 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ocijenjena vrijednost nabave nije poznata u trenutku izjavljivanja žalbe DKOM-u ili nije objavljena, naknada iznos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3.000,00 kun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(doplata po poziv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Žalba na odluku o odabiru/poništenju za 1 ili više grupa predmeta naba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knada iznosi 1/3 iznosa (čl.169.st.1.)za svaku grupu predmeta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kupno ne više od iznosa iz čl.169.st.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DBE9-0B1E-4D74-9447-9D992CC439C2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8:04:46Z</dcterms:created>
  <dc:creator>Rnk</dc:creator>
  <dc:description/>
  <dc:language>en-US</dc:language>
  <cp:lastModifiedBy>RH-TDU</cp:lastModifiedBy>
  <dcterms:modified xsi:type="dcterms:W3CDTF">2011-12-12T07:33:18Z</dcterms:modified>
  <cp:revision>201</cp:revision>
  <dc:subject/>
  <dc:title>Slide 1</dc:title>
</cp:coreProperties>
</file>