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003d"/>
                </a:solidFill>
                <a:latin typeface="Tahoma"/>
              </a:rPr>
              <a:t>Click to move the slide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EA4D-E718-449B-9247-3A3D471A73AB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5BB9-5EC6-479A-8864-68887EAAC97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F97B-6C09-4F17-AA47-DC29D2CD0D5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4139-A71C-499F-ADA6-A6310E763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00000" y="382968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9E955-E982-4C1E-B359-B5C958F95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01819-F6E4-4901-9764-2712663DF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2700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5364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0000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2700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5364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B6CB-EE8D-41AD-B866-5D7EE199B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9E93E-895A-4561-AD1A-B7AB3C6F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BA4ED-7765-45B0-B538-15F255CE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11C1A-29DB-4E47-99DF-AAC7095D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B28C9-941D-4970-BB0C-0853447F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458D3-0018-489F-A975-3406B424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90640" y="188640"/>
            <a:ext cx="70660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3E3BE-7875-41B8-ADAD-77978605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C745F-4F22-4CDF-AB1C-348FAEE9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E7F5-DC64-422D-A400-84874A3BF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65CE8-A446-4B9D-93CD-5FDA4CBE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07BB2-0909-4B3C-98CA-50E866A2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382968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DA916-482D-44DF-8F4E-B6596DC1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E4EAA-0511-4D30-B8FD-8ACCA9AF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2700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53640" y="119664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2700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53640" y="3829680"/>
            <a:ext cx="2596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B05FA-5C59-4FE5-98BE-B14613FF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21B3B-133C-41C9-875C-2B1170D50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D6AFC-4B9E-420A-8D96-F89A75AFA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A115A-52EB-45E5-B1BC-D58532D11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90640" y="188640"/>
            <a:ext cx="706608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7BB4D-F1FC-4293-9089-1D2972EC0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0799-ADA4-4484-B0DE-DF60F249B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0" y="382968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84609-5374-4BC9-A11E-5808E608E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0" y="1196640"/>
            <a:ext cx="39355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00000" y="3829680"/>
            <a:ext cx="8064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93534-75D4-4A48-9E16-5DA05F577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OI-logo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900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0"/>
            <a:ext cx="108000" cy="6873840"/>
          </a:xfrm>
          <a:prstGeom prst="rect">
            <a:avLst/>
          </a:prstGeom>
          <a:solidFill>
            <a:srgbClr val="ce00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08000" y="0"/>
            <a:ext cx="718920" cy="687384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003d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82656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7200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ce003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A4E8-83DF-4164-834F-393E239F5887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826920" y="907920"/>
            <a:ext cx="8317080" cy="7164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2205000"/>
            <a:ext cx="9144000" cy="374508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FOI-logo"/>
          <p:cNvPicPr/>
          <p:nvPr/>
        </p:nvPicPr>
        <p:blipFill>
          <a:blip r:embed="rId2"/>
          <a:stretch/>
        </p:blipFill>
        <p:spPr>
          <a:xfrm>
            <a:off x="8028000" y="0"/>
            <a:ext cx="1116000" cy="900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003d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e00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ce003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6EF2-CA6B-4EFF-A986-0EAE691EA1AD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28036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ce003d"/>
                </a:solidFill>
                <a:latin typeface="Tahoma"/>
              </a:rPr>
              <a:t>Uvod u novi Zakon o javnoj nabavi</a:t>
            </a:r>
            <a:endParaRPr b="0" lang="en-US" sz="30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Mirjana Čusek-Slunjski, dipl.iu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FO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02.12.201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Novo izuzeće od primjene Zakona</a:t>
            </a:r>
            <a:br>
              <a:rPr sz="2400"/>
            </a:b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čl.10.st.1.toč.13. “in-house” izuzeće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rješenje iz NZ strože od sudske prakse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jet isključivog vlasništva javnog naručitelja nad pravnom osob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jet u cijelosti samostalno izvršavati predmetni ugovor, odnosno podizvoditelji se ne smiju koristiti kao treće strane, niti osnivati zajednice ponuditelj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astoji se izbjeći zlouporaba izuzeća umjetnim ugovaranjem kroz preprodaju pos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7AF8-8437-48CC-AEBA-11DA86FD4FF3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Sprečavanje sukoba interesa-čl.13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sklađivanje s Zakonom o sprečavanju sukoba interesa (NN, broj 26/201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opisivanje dodatnih odredbi koje su specifične za provedbu postupaka 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EA76-A062-4E2F-9CD1-D73A0A21D2CA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Sprečavanje sukoba interesa-čl.13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ukobom interesa smatraju se odnosi naručitelja i gospodarskih subjeka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1. ako predstavnik naručitelja istovremeno obavlja upravljačke poslove u gospodarskom subjektu, 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2. ako je predstavnik naručitelja vlasnik poslovnog udjela, dionica odnosno drugih prava na temelju kojih sudjeluje u upravljanju odnosno u kapitalu tog gospodarskog subjekta s više od 0,5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173A-D1F4-4B9C-B9D5-57E448B0FDF9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Sprečavanje sukoba interesa-čl.13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roširuje se krug predstavnika naručitelj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 koje se odnose odredbe o sprečavanju sukoba interes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1. čelnik tijela naručitelja, član upravnog ili nadzornog tijela naručitelj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2. ovlašteni predstavnici naručitelja u pojedinom postupku javne nabave iz članka 24. Zakona,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3. druge osobe iz članka 24. stavka 5. Zakona koje imaju utjecaj na odlučivanje naručitelja u pojedinom postupku javne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EBC8-4DA4-4A5B-BB6C-A7A51C56162A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Čl.13.st.3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ručitelji ne smiju sklapati ugovore o jn s gospodarskim subjektima s kojima j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redstavnik naručitelj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u svojstv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onuditelj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člana zajednice ponuditel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odizvoditelji odabranom ponuditel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Čl.13.st.6.: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imjenjuje se i ako je predstavnik naručitelja ili povezana osoba predstavnika naručitelja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 (čelnik tijela naručitelja, član upravnog ili nadzornog tijela naručitelja) 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enijela svoje udjele u vlasništvu na drugu osobu ili posebno tijelo(povjerenika) sukladno posebnim propisima o sprečavanju sukoba intere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0893-4FA0-4360-94C6-E0066849787D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Čl.13.st.4. 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brana se odnosi i na slučaj kada je u odnosu s tim GS i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ovezana osoba predstavnika naručitelja iz čl.13.st.2.toč.1.(čelnik tijela naručitelja, član upravnog ili nadzornog tijela naručitelj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...povezane osobe s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bračni ili izvanbračni dru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rodnici po krvi u uspravnoj loz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braća i sest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svojitel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svojeni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CFE6-0E7C-4179-A5B2-2A2232EA8CB7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Čl.13.st.5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čl.13. St.4. ne primjenjuje se u slučaju kada je povezana osoba predstavnika naručitelja iz st.2.toč.1.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 (čelnik tijela naručitelja, član upravnog ili nadzornog tijela naručitelja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slovne udjele, dionice /druga prava na temelju kojih sudjeluje u upravljanju/kapitalu gospodarskog subjekta s više od 0,5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tekla u razdoblju od najmanje 2 godine prije imenovanja/stupanja na dužnost predstavnika naručitelja s kojim je povez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hr-HR" sz="2000" spc="-1" strike="noStrike">
                <a:solidFill>
                  <a:srgbClr val="000000"/>
                </a:solidFill>
                <a:latin typeface="Tahoma"/>
              </a:rPr>
              <a:t>Primjena ove odredbe ne dovodi u pitanje druge obveze koje se u tim slučajevima odnose na obveznike primjene  Zakona o sprečavanju sukoba  intere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5B81-424E-410C-9455-238912069BEC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Čl.13.st.7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ukobom interes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e smatra s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ituacija u kojoj predstavnik naručitelja ili povezana osoba predstavnika naručitelja </a:t>
            </a: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(čelnik tijela naručitelja, član upravnog ili nadzornog tijela naručitelja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Upravljačke poslove u gospodarskom subjektu obavlja kao službeni predstavnik naručitelja, a ne kao privatna oso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12F3-D7A6-42A1-AF33-0E659ED72495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Čl.13.st.8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adi provedbe čl.13. NZ predstavnici naručitelja dužni su potpis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javu o postojanju ili ne postojanju sukoba interesa u smislu njihova odnosa ili odnosa povezanih osoba predstavnika naručitelj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(čelnik tijela naručitelja, član upravnog ili nadzornog tijela naručitelja)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 gospodarskim subjekt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F006-D214-4CDF-A7AF-D35996F3816D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Čl.13.st.9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 temelju izjava, naručitelj je obveza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1. na svojim internetskim stranicam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bjaviti popis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gospodarskih subjekata s kojima je predstavnik naručitelja ili s njime povezane osobe u sukobu interesa ili obavijest da takvi subjekti ne post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u dokumentaciji za nadmetanj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 pojedini postupak javne nabav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avesti popis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gospodarskih subjekata s kojima je u sukobu interesa u smislu ovoga članka ili navesti da takvi subjekti ne postoj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3. popis iz točke 1. ovoga stavk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talno ažurirati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skladu s promjen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0F70-065B-4CE4-AB38-F262A138E3B3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8700-2F6A-4D03-AC7D-4D618AAA6960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e003d"/>
                </a:solidFill>
                <a:latin typeface="Tahoma"/>
              </a:rPr>
              <a:t>Opći pregled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novi 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Zakon o javnoj nabavi (NN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90/11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stupa na snagu 01.01.2012. 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sim određenih odredbi koje stupaju na snagu na dan pristupanja Republike Hrvatske E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ne uvodi sistemske novine u odnosu na važeći zakonodavni okv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dodatno usklađivanje s “pravnom stečevinom” E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…</a:t>
            </a: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koliko naručitelj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e posjeduje internetske stranic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, popis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gospodarskih subjekata s kojima je predstavnik naručitelja ili s njime povezane osobe u sukobu interesa ili obavijest da takvi subjekti ne postoj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dužan je objaviti u službenom glasilu ili na oglasnoj ploči ili ga na drugi način učiniti stalno dostupnim zainteresiranoj jav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ahoma"/>
              </a:rPr>
              <a:t>Čl.176. NZ: Ugovor sklopljen suprotno ovome članku je ništetan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6433-490D-4121-87E7-FBA6E3F3EF74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Tajnost dokumentacije gospodarskih subjekata-čl.16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načajne novine u odnosu na označavanje podataka o dokumentaciji GS poslovnom tajno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GS označava određene podatke iz ponude poslovnom tajnom, obvezan je u ponudi navesti pravnu osnovu (propis i članak) na temelju kojih su ti podaci taj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ako označeni podaci ne smiju se davati na uvid drugima i moraju se čuva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67CC-9F1D-45CB-8163-F24BDE030A8C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…</a:t>
            </a: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redba ne smije dovesti u pitanje primjenu odredaba Zakona o javnoj nabavi, osobito odredbe koje se odnose n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bjavljivanje obavijesti o sklopljenim ugovori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adržaj odluka i zapisnika koje naručitelj dostavlja natjecateljima ili ponuditelji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9F3E-B930-4632-9E65-991C27DA86D1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Čl.16.st.3.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rijekom navedeni podaci koje GS u ponudi nikada ne smije označiti poslovnom tajno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jedinične cij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znosima pojedine stav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cijeni pon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odatke iz ponude u vezi s kriterijima za odabir ekonomski najpovoljnije pon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68CB-72FD-412F-A968-FBCFC016FF79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HVALA NA PAŽN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1834-B27C-4CA4-8662-A57BA694B252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Opći pregled izmjena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lan javne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ocijenjena vrijednost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egistar ugovo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ovo izuzeće od primjena Zakona o javnoj naba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prečavanje sukoba intere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ajnost dokumentacije gospodarskih subjek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dizvoditel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vršenje ugovora o javnoj naba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ovo uređenje postupaka i pravila proved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ce003d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avna zašt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3E6B-E0C4-4BE5-A2D6-C72EF63D9E8D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rocijenjena vrijednost nabave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OV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svakoj objavi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BVEZ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vođenja procijenjene vrijednosti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kazatelj do kojih iznos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uditi robu, radove ili uslu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vedena odredba smanjiti će broj poništenja postupaka iz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azloga što je cijena najpovoljnije ponude viša od osiguranih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redstava za naba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E5B3-DC96-4464-BA93-0C59DA86CA88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redmet nabave podijeljen na više grupa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REDMET NABAVE PODIJELJEN NA VIŠE GRU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PRAVILO-čl.18.st.6. N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je predmet nabave podijeljen na više grupa za primjenu pravila nabave velike ili male vrijednosti kao procijenjena vrijednost uzima se ukupna procijenjena vrijednost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vih tih grupa,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 n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odvojenu nabavu pojedine grup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predmeta nabave primjenjuju se ona pravila koja vrijede za ukupnu procijenjenu vrijednost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AFE5-B1B4-4362-A1C7-0FD9D3C50CDC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Predmet nabave podijeljen na više grupa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IZNIMNO OD PRAVILA-čl.18.st.7.N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ko je predmet nabav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velike vrijednosti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dijeljen na više grupa, na odvojenu nabavu pojedine grupe ili grupa predmeta nabave mogu se primijeniti pravila koja vrijede za nabavu male vrijednosti pod uvjetom 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je vrijednost pojedine grupe ili grup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za robu ili uslug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anja od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80.000,00 EUR-a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kunskoj protuvrijednosti a z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radove manja od 1 milijun EUR-a,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e00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kupna zbrojena vrijednost tih grupa ne prelazi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ukupne procijenjene vrijednosti svih grupa predmeta nab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C39F-378E-4B0A-9840-718AF1627078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Novo izuzeće od primjene Zakona</a:t>
            </a:r>
            <a:br>
              <a:rPr sz="2400"/>
            </a:b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čl.10.st.1.toč.13. “in-house” izuzeće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Čl.10.st.1.toč.13.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ugovori koje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javni naručitelj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klapa s pravnom osobom, pod uvjetom 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a) je ta pravna osoba osnovana za obavljanje djelatnosti iz djelokruga tog javnog naručitelj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b) ta pravna osoba obavlja djelatnosti pretežno za tog javnog naručitelj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c) je predmet ugovora vezan uz obavljanje djelatnosti iz podtočke a) ove točk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52A4-DCFA-400D-8E75-462C3EAD6A12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Novo izuzeće od primjene Zakona</a:t>
            </a:r>
            <a:br>
              <a:rPr sz="2400"/>
            </a:b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čl.10.st.1.toč.13. “in-house” izuzeće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) je javni naručitelj isključivi vlasnik poslovnog udjela, dionica odnosno drugih prava u toj pravnoj osobi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) nad tom pravnom osobom javni naručitelj obavlja nadzor kao nad svojom ustrojstvenom (poslovnom) jedinicom, 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f) ta pravna osoba u cijelosti samostalno izvršava taj ugov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56F6-9DDE-4D2F-9ABA-5ED1CC15640B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0640" y="188640"/>
            <a:ext cx="7066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Novo izuzeće od primjene Zakona</a:t>
            </a:r>
            <a:br>
              <a:rPr sz="2400"/>
            </a:br>
            <a:r>
              <a:rPr b="0" lang="hr-HR" sz="2400" spc="-1" strike="noStrike">
                <a:solidFill>
                  <a:srgbClr val="ce003d"/>
                </a:solidFill>
                <a:latin typeface="Tahoma"/>
              </a:rPr>
              <a:t>čl.10.st.1.toč.13. “in-house” izuzeće</a:t>
            </a:r>
            <a:r>
              <a:rPr b="0" lang="sr-Latn-CS" sz="2400" spc="-1" strike="noStrike">
                <a:solidFill>
                  <a:srgbClr val="ce003d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e003d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19664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vjeti trebaju biti ispunjeni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kumulativ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zuzeće proizlazi iz pravne stečevine, presude Europskog su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n-house” izuzeće primjenjuje se samo na javne naručitel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andan izuzeću za sklapanje ugovora s povezanim društvima i poslovnim udruženjima koje se primjenjuje na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sektorske naručitel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vrha: javni naručitelj slobodan organizirati svoje poslovanje osnivanjem pravnih osoba koje će za njega kao vlasnika obavljati određene djela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e00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826920" y="6524640"/>
            <a:ext cx="8317080" cy="333360"/>
          </a:xfrm>
          <a:prstGeom prst="rect">
            <a:avLst/>
          </a:prstGeom>
          <a:solidFill>
            <a:srgbClr val="ebe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172360" y="6245280"/>
            <a:ext cx="514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0FD7-273E-4D04-9990-16C39A338CE9}" type="slidenum">
              <a:rPr b="0" lang="hr-HR" sz="1400" spc="-1" strike="noStrike">
                <a:solidFill>
                  <a:srgbClr val="ce003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8:04:46Z</dcterms:created>
  <dc:creator>Rnk</dc:creator>
  <dc:description/>
  <dc:language>en-US</dc:language>
  <cp:lastModifiedBy>Emil</cp:lastModifiedBy>
  <dcterms:modified xsi:type="dcterms:W3CDTF">2011-12-02T06:27:51Z</dcterms:modified>
  <cp:revision>133</cp:revision>
  <dc:subject/>
  <dc:title>Slide 1</dc:title>
</cp:coreProperties>
</file>