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FDB-8FD1-4785-9412-BAA288DFEA8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3BFD-DC08-44F6-A971-5ABDCE55C03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5A8-C7FB-48E4-ACAE-0126A6C75F4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4856-851B-457D-AF3E-8586C057D6A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C322-F21F-47D8-B559-7A0C60BAD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82EE-4B7A-4872-8F23-48469B455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1E0C-A4D0-4DDB-8FF7-D2D299F24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27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364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27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364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8936-2DAB-4049-9B08-98B10702D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CB0B4-05FA-4893-9F6C-CAF517A0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45501-C0EB-49F3-BCCD-E093EFA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AAF45-B979-41F3-8753-F1DFF41B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F1C45-6FE0-4774-9160-66457DE7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AD872-10D1-4AD7-8D38-E5B6DF34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0640" y="188640"/>
            <a:ext cx="70660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39FF-58C8-4899-8E2E-940D92A9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A8BF5-AA64-4500-9018-FF64008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1DF19-9A88-460C-86B0-F6BA11941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1601D-DF54-422A-8B89-68A93BD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A1560-B8DB-426A-A837-2C005ED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E3DAD-6419-4EEF-B337-792BF437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750B4-4D0F-4335-8203-2321C8E2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7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5364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7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5364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909E1-7641-4AE8-88B1-BD721AE6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8E64E-1849-46B6-B1B7-83FB84A57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5336-9C13-4FDF-94D9-EBCF0A2C1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C655-DA87-4283-8726-A923C8D0D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0640" y="188640"/>
            <a:ext cx="70660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78A7-66CB-4547-8C04-DE92C6F3A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AF69-B74F-4BCD-9854-D4A47DE8F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9610-605E-4855-A15C-219273015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4CB2-A0E5-4D72-8AF7-488ABC4DD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I-logo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0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0"/>
            <a:ext cx="108000" cy="6873840"/>
          </a:xfrm>
          <a:prstGeom prst="rect">
            <a:avLst/>
          </a:prstGeom>
          <a:solidFill>
            <a:srgbClr val="ce0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08000" y="0"/>
            <a:ext cx="718920" cy="687384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2656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7200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ce003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F04E-66B8-437B-A42F-9AA41E80865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26920" y="907920"/>
            <a:ext cx="8317080" cy="7164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2205000"/>
            <a:ext cx="9144000" cy="374508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FOI-logo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ce003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6823-CA32-400E-AD0E-0E7980934835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424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e003d"/>
                </a:solidFill>
                <a:latin typeface="Tahoma"/>
              </a:rPr>
              <a:t>NOVOSTI U POSTUPCIMA  JAVNE NABAVE</a:t>
            </a:r>
            <a:endParaRPr b="0" lang="en-US" sz="36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2276280"/>
            <a:ext cx="64008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e003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četak postup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e003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kazi sposob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e003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kumentacija za nadmeta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e003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konomski najpovoljnija ponuda kao kriterij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 odabir pon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e003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go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zervirano mjesto podnožja 4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353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Zahtjev za dodatne informacije</a:t>
            </a:r>
            <a:br>
              <a:rPr sz="2400"/>
            </a:b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 i objašnjenja DZN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27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G.s mogu tijekom roka za dostavu ponuda zahtijevat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dodatne informacij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- objašnjenja DZ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ručitelj je dužan staviti ih na raspolaganje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bez odgađanja na isti način i na istim internetskim stranicama kao i osnovnu DZN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u otvorenom postupku JN u EOJN), bez navođenja podataka o podnositelju zahtje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jkasnije 6 dana prije krajnjeg roka za dostavu ponuda u postupcima javne nabave velike vrijednosti, odnosno 4 dana u postupcima JN M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892720" y="1196640"/>
            <a:ext cx="7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89000"/>
            <a:ext cx="7353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Izmjena DZN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836280"/>
            <a:ext cx="771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naručitelj za vrijeme roka za dostavu ponuda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, iz bilo kojeg razlog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ijenja DZN, obvezan 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sigurati dostupnost izmjena svim zainteresiranim g.s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isti način i na istim internetskim stranicama kao i osnovnu DZN (tj. u EOJN ), 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osigurati da g.s. od izmjene imaju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jmanje 15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dostavu ponude u postupku JN VV,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nosno 10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postupcima JN MV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ako je potrebno, naručitelj je obvezan izmijeniti ili ispraviti poziv na nadmet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Troškovi DZN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ažeći Zakon, čl. 56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„u postupku JN naručitelj može od g.s.zahtijevati naknadu troškova za izradu DZN (za papir, ispis, umnožavanje, za nosač podataka), kao i naknadu mogućih poštanskih troškova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Novi Zakon, čl. 78.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333399"/>
                </a:solidFill>
                <a:latin typeface="Tahoma"/>
              </a:rPr>
              <a:t>-naručitelj ne smije od g.s. zahtijevati naknadu troškova za izradu i stavljanje na raspolaganje DZN 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te moguće dodatne dok., niti to isto postavljati kao uvjet za preuzimanje dokumentacije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Iznimno: samo za dio DZN, koji nije u EO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280" y="189000"/>
            <a:ext cx="7497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Vrijednosni pragovi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836280"/>
            <a:ext cx="7958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ažeći” Zakon (čl.128)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ovi Zakon (čl.18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bava male vrijednosti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abava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male vrijed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300.000,00 kn i man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je nabava čija je procijenj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robe i usluge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vrijednost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manja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 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500.000,00 kn i man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europskih prag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rad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bava velike vrijednosti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abava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velike vrijednos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Iznad 300.000,00 kn z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je nabava čija je procijenjena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be i usluge, 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vrijednost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jednaka ili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već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500.000,00 kn z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od vrijednosti europsk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dov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pragova (objava u EO E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0640" y="189000"/>
            <a:ext cx="7353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Izvješće o razlozima primjene kriterija za odabir na temelju ENP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836640"/>
            <a:ext cx="82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ažeći” Zakon, čl. 58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ovi Zakon uk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je obveza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obvezu naručiteljima da sast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staviti izvješće o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izvješće o razlozima primj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zlozima primjen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kriterija za odabir na temel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iterija za odabir n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EN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emelju ekonomsk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jpovoljnije ponude u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Ako se odabire ENP, kriteriji 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nosu na relativno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odabir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ne smiju bi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načenje.”</a:t>
            </a:r>
            <a:r>
              <a:rPr b="1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diskriminirajući i moraju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biti povezani s predmetom 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nab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Razlozi isključenja natjecatelja ili ponuditelj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Obvezni razlozi isključenj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tjecatelja ili ponuditelja (kažnjavanost, neplaćeni porezi i doprinosi, dostava lažnih podataka u dostavljenim dokumentima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Ostali (neobvezni) razlozi isključenja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stečaj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likvidaci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ako su g.s. i/ili osoba ovlaštena za zastupanje g.s. pravomoćno osuđeni za bilo koje djelo koje se odnosi na obavljanje njihove profesionalne djelatnost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težak profesionalni propust koji naručitelj može dokaz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bi mogao koristiti ove razloge isključenja, naručitelj to mora navesti u objavi javne nab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Obvezni razlozi isključenj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1) Izrečena pravomoćna osuđujuća presuda za jedno ili više kaznenih djel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g.s. i/ili osobi ovlaštenoj po zakonu za zastupanje pravne osobe g.s. (udruživanje za počinjenje k.d., primanje mita u gos.poslovanju, davanje mita, zlouporaba položaja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ka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vod iz kaznene evidenci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žave sjedišta gospodarskog subjekta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jednakovrijedni dokument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ji izdaje nadležno sudsko ili upravno tijelo u državi sjedišta g.s.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java pod prisegom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spred nadležne sudske ili upravne vlasti ili bilježnika ili nadležnog strukovnog ili trgovinskog tije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Obvezni razlozi isključenja - nastavak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2) Ako g.s. nije ispunio obvezu plaćanja dospjelih poreznih obvez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 obveza za mirovinsko i zdravstveno osiguranje, …. osim ako je g.s.-u odobrena odgoda plaćanja navedenih obveza (dokaz: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tvrda PU o stanju dug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3)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je obvezan isključiti iz postupka g.s.-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oji je dostavio lažne podatk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i dostavi dokumenata kojima dokazuje da ne postoje razlozi isključenja odnosno da ispunjava uvjete sposobnosti za izvršenje predmeta nab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6800" y="0"/>
            <a:ext cx="70995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Uvjeti  sposobnosti – financijske, tehničke i stručne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– čl. 69.-74. ZJN-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može tražiti od natjecatelja ili ponuditelja da zadovol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inimalne razin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inancijske, tehničke i stručne sposobno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pseg informacija i minimalne razine financijske, tehničke i stručne sposobnosti koje se zahtijevaju za određeni ugovor moraju bi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vezani uz predmet nabav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razmjerni predmetu nabav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nosno grup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amstvo za ozbiljnost ponude i potvrda PU nisu više dokazi financijske sposob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Pravna i poslovna sposobnos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28440" y="856800"/>
            <a:ext cx="8064360" cy="53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tjecatelj ili ponuditelj mora dokazat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pis u sudski, obrtni, strukovni ili odgovarajući regist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laštenje ili članstvo u određenoj organizaciji – ako je potrebno u zemlji sjedišta g.s. za izvršenje ugovora – mora se traž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oka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izvod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izjava s ovjerom potpisa kod nadležnog tijela, ne stariji od 3 mjeseca od dana početka postupka 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CILJ IZMJENA ZAKON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 donosi niz novih normativnih rješenja vezanih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postupke javne nabave s cilj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manjenja formalizma u postupcima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manjenja troškova provedbe postupaka za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ručitelje i ponuditelje, 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brže i efikasnije provedbe postupaka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Oblik dokaz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Uredba, čl.10.1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Novi Zakon, čl.7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aručitelj može u DZN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Sve dokumente koj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avesti da li su ponuditelj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naručitelj zahtijeva natjecatelj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bvezni, radi dokazivanj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ili ponuditelji mogu dostaviti 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sposobnosti izvršenja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200" spc="-1" strike="noStrike">
                <a:solidFill>
                  <a:srgbClr val="6b6bcf"/>
                </a:solidFill>
                <a:latin typeface="Tahoma"/>
              </a:rPr>
              <a:t>neovjerenoj presli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edmeta nabave,  dostavit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izvornike odnosno ovjeren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Neovjerenom preslikom smat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eslike traženih dokaza ili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se i neovjereni ispis elektroničk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eovjerene preslike istih”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ispr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Čl. 89.st.3. Zakon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- od odabranog pon. izvornici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ili ovjerene preslike, unuta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roka mirovanj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Izrada i dostava ponud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 izradi ponude ponuditelj se mora pridržavati zahtjeva i uvjeta iz dokumentacije za nadmetanj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 izradi ponude ponuditelj ne smije mijenjati i nadopunjavati tekst dokumentacije za nadmetanj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roku za dostavu ponude ponuditelj može izmijeniti svoju ponudu, nadopuniti je ili od nje odustat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držaj ponude, način izrade i postupanje s ponudama propisuje VRH Uredbom o načinu izrade i postupanju s DZN i ponud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Podizvoditelji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uditelj, ukoliko koristi podizvoditelje, mora u ponudi navest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datke o dijelu ugovor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 javnoj nabavi kojeg namjerava dati u podugovor, te podatke o svim predloženim podizvoditeljima (tvrtka, skraćena tvrtka, sjedište, OIB i broj račun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ovost u vezi s plaćanjem podizvoditel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ukoliko sudjeluju u izvršavanju ugovora -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ručitelj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posredno plaća podizvoditel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na temelju potvrđenog računa odnosno situacije za podizvodite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abrani ponuditelj smije tijekom izvršenja ugovora o mijenjati podizvoditelje samo uz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istanak naručitelja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li samo za onaj dio ugovora koji je dao u podugov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343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ce003d"/>
                </a:solidFill>
                <a:latin typeface="Tahoma"/>
              </a:rPr>
              <a:t>Rok za dostavu ponuda</a:t>
            </a:r>
            <a:endParaRPr b="0" lang="en-US" sz="22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560" y="620640"/>
            <a:ext cx="7993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Važeći” Zakon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Novi Zak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tvoreni postupak VV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 u="sng">
                <a:solidFill>
                  <a:srgbClr val="6b6bcf"/>
                </a:solidFill>
                <a:uFillTx/>
                <a:latin typeface="Tahoma"/>
              </a:rPr>
              <a:t>Otvoreni i ogr. postupak </a:t>
            </a:r>
            <a:r>
              <a:rPr b="1" lang="hr-HR" sz="2000" spc="-1" strike="noStrike" u="sng">
                <a:solidFill>
                  <a:srgbClr val="6b6bcf"/>
                </a:solidFill>
                <a:uFillTx/>
                <a:latin typeface="Tahoma"/>
              </a:rPr>
              <a:t>VV</a:t>
            </a:r>
            <a:r>
              <a:rPr b="0" lang="hr-HR" sz="2000" spc="-1" strike="noStrike" u="sng">
                <a:solidFill>
                  <a:srgbClr val="6b6bcf"/>
                </a:solidFill>
                <a:uFillTx/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znad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eu.pragova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000" spc="-1" strike="noStrike">
                <a:solidFill>
                  <a:srgbClr val="6b6bcf"/>
                </a:solidFill>
                <a:latin typeface="Tahoma"/>
              </a:rPr>
              <a:t>40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 dana od dana slanja poz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52(-7), (-5) dan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na nadmetanje, odnosno 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dostavu pon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tvoreni postupak VV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 u="sng">
                <a:solidFill>
                  <a:srgbClr val="6b6bcf"/>
                </a:solidFill>
                <a:uFillTx/>
                <a:latin typeface="Tahoma"/>
              </a:rPr>
              <a:t>Otvoreni i ograničeni postupa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ispod eu.pragova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6b6bcf"/>
                </a:solidFill>
                <a:uFillTx/>
                <a:latin typeface="Tahoma"/>
              </a:rPr>
              <a:t>MV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- </a:t>
            </a:r>
            <a:r>
              <a:rPr b="1" lang="hr-HR" sz="2000" spc="-1" strike="noStrike">
                <a:solidFill>
                  <a:srgbClr val="6b6bcf"/>
                </a:solidFill>
                <a:latin typeface="Tahoma"/>
              </a:rPr>
              <a:t>20 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dana od dana slanja poz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26(-7), (-5) dan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na nadmetanje…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tvoreni postupak MV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6b6bcf"/>
                </a:solidFill>
                <a:uFillTx/>
                <a:latin typeface="Tahoma"/>
              </a:rPr>
              <a:t>Žurnost</a:t>
            </a:r>
            <a:r>
              <a:rPr b="1" lang="hr-HR" sz="2000" spc="-1" strike="noStrike">
                <a:solidFill>
                  <a:srgbClr val="6b6bcf"/>
                </a:solidFill>
                <a:latin typeface="Tahoma"/>
              </a:rPr>
              <a:t>: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u ograničenom i PPS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10 (-5) dan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 ako nije moguća primje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redovnih ili skraćenih rokov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graničeni postupak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-rok za dostavu zahtjeva z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40 odnosno 20 dana 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sudjelovanje = 15 dana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- rok za dostavu ponud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(ogr.p) = 15 d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6b6bc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Javno otvaranje ponud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otvorenom i ograničenom postupku javne nabave naručitelj provodi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javno otvaranje ponud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ostalim postupcima, osim pregovaračkog postupka bez prethodne objave, provodi se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javno otvaranje konačnih ponud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postupku sklapanja ugovora o javnim uslugama iz Dodatka II. B iz članka 44. ovoga Zakona naručitelj nije obvezan javno otvoriti pon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ude otvaraju najmanje 2 ovlaštena predstavnika naručitelja, koji ne moraju biti zaposlenici naručite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pisnik o javnom otvaranju ponu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Pregled i ocjena ponud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kon otvaranja ponuda naručitelj pregledava i ocjenjuje ponude na temelju uvjeta i zahtjeva iz DZ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gled i ocjena ponud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tajn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u do donošenja odluke naručite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je u ponudi iskazana </a:t>
            </a:r>
            <a:r>
              <a:rPr b="1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neuobičajeno niska cijena ponude ili neuobičajeno niska pojedina jedinična cijena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što dovodi u sumnju mogućnost isporuke robe, izvođenja radova ili pružanja usluga koji su predmet nabave, naručitelj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ože odbi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akvu ponud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ije odbijanja ponude naručitelj mora pisanim putem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ponuditelja zatražit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jašnjen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 podacima o sastavnim elementima ponude koje smatra bitnima za izvršenje ugovora. U tu svrhu ponuditelju se da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imjereni rok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353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Pojašnjenje ili upotpunjavanje dokumenata i pojašnjenje ponude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 92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280" y="836280"/>
            <a:ext cx="771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U postupku pregleda i ocjene ponuda naručitelj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mož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u primjerenom roku pozvati g.s. d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- pojasne il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- upotpune predane dokumen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ojašnjenje ili upotpunjavanje dostavljenih dokumenata smije se odnositi samo na: nejasnoće, manje nedostatke ili pogreške</a:t>
            </a:r>
            <a:r>
              <a:rPr b="0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 koji su uklonjivi,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te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ne smije rezultirati naknadnom zamjenom ili naknadnom dostavom traženih dokumenat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, nego samo upotpunjavanjem već priloženih dokumen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aručitelj može u primjerenom roku zatražiti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pisano pojašnjenje ponud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ako ponuda sadrži nejasnoće, manje nedostatke ili pogreške koje javni naručitelj smatra uklonjivi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To ne smije rezultirati izmjenom ponude niti izmjenom u rangiranj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353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Uvid u ponude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102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id u ponude drugih ponuditelja –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 vremenu između dostave odluke o odabiru ili poništenju do isteka roka za izjavljivanje žal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id nije dozvoljen u podatke, dokumente i dijelove ponude koje su ponuditelji označil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slovnom tajnom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ukladno posebnom propi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sobe koje obavljaju uvid u ponude drugih ponuditelja ne smiju kopirati, umnažati, reproducirati, fotografirati ili snimati podatke iz ponuda drugih ponudite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miju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amo ručno bilježiti podatke iz ponud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90640" y="189000"/>
            <a:ext cx="7353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Način pregleda i ocjene ponuda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94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jprije isključuje ponuditelj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li natjecatelja kod kojeg postoje razlozi za isključenj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tim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bija ponudu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uditelja koji nije dostavio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jamstvo za ozbiljnost ponud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ako je traž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preostalim ponudama provjerava: oblik, sadržaj i cjelovitost ponude; ispunjenje uvjeta sposobnosti; ispunjenje zahtjeva vezanih za opis predmeta nabave i teh. specifikacije; računsku ispravnost ponude; ispunjenje ostalih uvjeta iz DZ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ngiranje valjanih ponuda prema kriteriju za odab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vjera odabranog(ih) ponuditelja (dokaza sposobnosti) – dostava izvornika ili ovjerenih preslika svih traženih dokumenata koja izdaju nadležna tijela (čl. 95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luka o odabir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90280" y="189000"/>
            <a:ext cx="7281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Provjera ponuditelj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71280" y="907560"/>
            <a:ext cx="7715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kon rangiranja ponuda naručitelj mora, od najpovoljnijeg ponuditelja s kojim namjerava sklopiti ugovor ili  jednog ili više g.s. s kojima namjerava sklopiti OS,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zatražiti dostavu izvornika ili ovjerenih preslik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vih onih dokumenata koji su bili traženi, a koje izdaju nadležna tij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je g.s. već u zahtjevu za sudjelovanje ili ponudi dostavio određene dokumente u izvorniku ili ovjerenoj preslici, nije ih dužan ponovo dostavlja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najpovoljniji g.s. u ostavljenom roku ne dostavi sve tražene izvornike ili ovjerene preslike dokumenata naručitelj će isključiti takvog ponuditelja odnosno odbiti njegovu ponud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ručitelj će ponovo izvršiti rangiranje ponud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ma kriteriju za odabir i pozvati novog najpovoljnijeg ponuditelja da dostavi traže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PLANIRANA SREDSTVA ZA JAVNU NABAVU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Čl.13.st.2.”važećeg ZJN: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Novi ZJ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”javni naručitelj smije započe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- planirana sredstva 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ostupak javne nabave ond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nabavu nisu uvjet 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ada s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lanirana sredstv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početak postupka J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za nabavu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” – osim u slučaju: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- naručitelj mož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kada se u postupku JN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započeti postupak J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bavljaju i fin. sredstva z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i prije donošenja Fin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vršenje ugovora;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plana/Proračun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uz suglasnost mjerodavnog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- ako naručitelj u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ijela za zaduženje u slijedeći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trenutku donošenj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godinama;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odluke o odabiru ne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sklapanje OS-a i DSN-a.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osigurana sredstva z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izvršenje ugovora -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6b6bcf"/>
                </a:solidFill>
                <a:latin typeface="Arial"/>
              </a:rPr>
              <a:t>poništiti će postupak J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353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Rok mirovanja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 98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7160" y="907920"/>
            <a:ext cx="803592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na osnovi rezultata pregleda i ocjene ponuda i kriterija odabira,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onosi odluku o odabir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u kojem naručitelj ne smije sklopiti ugovor ili OS, odnosno pokrenuti novi postupak za isti ili sličan predmet nab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mirovanja iznosi 15/10 dana od dana dostave odluke o odabiru/poništen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četak roka mirovanja računa se od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vog slijedećeg dana nakon dana dostave odlu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mirovanj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 primjenjuje s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je u postupku sudjelovao samo jedan ponuditelj čija je ponuda ujedno i oda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takvim slučajevima odluka o odabiru postaje izvršna, te nastaje ugovor o javnoj nabavi odnosno OS,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ostavom odluke odabranom ponuditel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0280" y="189000"/>
            <a:ext cx="7281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Učinak odluke o odabiru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 99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928800"/>
            <a:ext cx="771516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luka o odabiru postaje izvršna nakon proteka roka mirov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ršnošću odluke o odabiru nastaje ugovor o javnoj nabavi odnosno 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avni naručitelj ne smije sklopiti ugovor odnosno OS niti pristupiti njegovu izvršenju prije izvršnosti odluke o odabi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je izjavljena žalba protiv odluke o odabiru, ona postaje izvršna danom dostave odluke DKOM-a kojom se žalb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odbacu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odbija i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se obustavlja žalbeni postup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Istek roka valjanosti ponud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00000" y="1197000"/>
            <a:ext cx="8064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Ako je na dan izvršnosti odluke o odabiru istekao rok valjanosti ponude, ugovor odnosno OS nastaje dostavom pisane </a:t>
            </a:r>
            <a:r>
              <a:rPr b="1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izjave ponuditelja o produženju roka valjanosti ponud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(i jamstva za ozbiljnost ponude, ako je bilo uvj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Ako odabrani ponuditelj, u ostavljenom rok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- ne dostavi izjavu o produženju roka valjanosti ponude i jamstvo za ozbiljnost ponud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- odustane od ponud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- odbije potpisati ugovor odnosno OS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- ne dostavi jamstvo za uredno ispunjenje ugovora kako je zatraženo u DZN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naručitelj će ponovo izvršiti rangiranje ponuda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e uzimajući u obzir ponudu odabranog ponuditelja te donijeti odluku o odabiru nove najpovoljnije valjane ponude ili ako postoje razlozi poništiti postupa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90280" y="188640"/>
            <a:ext cx="7281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Obavijest o sklopljenim ugovorima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60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44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26676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o i prema važećem Zakonu o javnoj nabavi naručitelj je obvezan za svaki sklopljeni ugovor o javnoj nabavi ili OS poslati na objavljivanje obavijest o sklopljenom ugovoru najkasni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48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dana sklapanja ugovora o javnoj nabavi ili 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26676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ovost koju donosi novi Zakon u odnosu na važeći –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ekršaj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a i odgovorne osobe naručitelja ako navedene obavijesti ne pošalje na objavljivanje u EOJN R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4600" indent="-26676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nimke od obveze objave – čl. 60. st. 5. Zakona o javnoj nabavi (NN br. 90/20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028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Izvršenje ugovora o javnoj nabavi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105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7160" y="980640"/>
            <a:ext cx="80726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govorne strane izvršavaju ugovor u skladu s uvjetima određenim u DZN i odabranom ponud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je obvezan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ontrolira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e li izvršenje ugovora u skladu s uvjetima određenima u DZN  i odabranom ponu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mjene ugovora o javnoj nabavi za vrijeme njegova trajan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matraju se novim ugovorom za koji je naručitelj obvezan provesti novi postupa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ako su te izmjene bitne u odnosu na sadržaj osnovnog ugovora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ako predstavljaju namjeru ugovornih strana da ponovo određuju osnovne elemente toga ugov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9028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Izvršenje ugovora o javnoj nabavi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105.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7280" y="981000"/>
            <a:ext cx="7499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Bitne izmjene ugovor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 izmjene ko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uvode uvjete koji bi, da su bili dio osnovnog postupka, omogućili podnošenje i odabir drugačijih ponuda od odabranih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znatno proširuju predmet nabave na robu, radove ili usluge koje nisu bile obuhvaćene osnovnim ugovorom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 mijenjaju ekonomsku ravnotežu ugovora u korist ponuditelja na način koji nije bio predviđen u uvjetima osnovnog ugovora o javnoj nab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0280" y="189000"/>
            <a:ext cx="7281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Registar ugovora i OS 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(čl. 21)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57160" y="785520"/>
            <a:ext cx="8072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ručitelj je obvezan voditi registar ugovora i OS, te ažurirati podatke iz registra najmanje svakih 6 mjese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bveza objave registra na internetskim stranica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Sadržaj registra ugovora o javnoj nabavi i 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predmet ugovor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evidencijski broj nabave i broj objav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vrsta provedenog postupka javne nabav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iznos sklopljenog ugovora i OS (i ug. na temelju OS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datum i rok na koji je sklopljen ugovor i OS, te ugovor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a temelju O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naziv ponuditelja s kojim je sklopljen ugovor,OS i ugovor na temelju OS  (i podizvoditelja ako postoji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konačni datum isporuke robe, izvođenja radova ili pružanja uslug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- konačni iznos koji je naručitelj isplatio na temelju ugovora,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te  obrazloženje ukoliko je taj iznos veći od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ugovoren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e003d"/>
                </a:solidFill>
                <a:latin typeface="Tahoma"/>
              </a:rPr>
              <a:t>ZAHVALJUJEM NA POZORNOSTI </a:t>
            </a:r>
            <a:endParaRPr b="0" lang="en-US" sz="36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547640" y="55166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8920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765000"/>
            <a:ext cx="77263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ažeći”  Zakon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6b6bcf"/>
                </a:solidFill>
                <a:latin typeface="Tahoma"/>
              </a:rPr>
              <a:t>Novi Zak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ručitelj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ahoma"/>
              </a:rPr>
              <a:t>mo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ko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Naručitelj </a:t>
            </a:r>
            <a:r>
              <a:rPr b="1" lang="sr-Latn-CS" sz="2400" spc="-1" strike="noStrike" u="sng">
                <a:solidFill>
                  <a:srgbClr val="6b6bcf"/>
                </a:solidFill>
                <a:uFillTx/>
                <a:latin typeface="Tahoma"/>
              </a:rPr>
              <a:t>može</a:t>
            </a:r>
            <a:r>
              <a:rPr b="1" lang="sr-Latn-CS" sz="2400" spc="-1" strike="noStrike">
                <a:solidFill>
                  <a:srgbClr val="6b6bc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nak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teka roka za dostav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isteka roka za dosta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nude poništiti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ponude poništ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upak JN: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postupak JN ak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-”ako je ukupna cijen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“je cijena najpovoljni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jpovoljnije ponud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ponude veća od osiguran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eća od planiranih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sredstava za nabavu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redstava za nabavu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Čl.3.st.2. – Naručitel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- Osim u slučaju iz čl.13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primjenjuju odredbe Zak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.3. Zakona”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na način koji omoguća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- učinkovitu javnu nabavu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- ekonomično trošen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b6bcf"/>
                </a:solidFill>
                <a:latin typeface="Tahoma"/>
              </a:rPr>
              <a:t>sredstava za javnu naba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zervirano mjesto podnožja 4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196640"/>
            <a:ext cx="77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oračunski korisnici DP mogu preuzeti obveze na teret DP tekuće godi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samo za namjene 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- do visine utvrđene državnim proračuno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roračunski korisnici DP-a mogu preuzeti obveze po ugovorima koji zahtijevaju plaćanje u slijedećim godinama 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uz suglasnost Vlade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, a na prijedlog ministra financija (odredbe istoga članka na odgovarajući se način primjenjuje na jedinice lokalne i regionalne samouprav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6b6bcf"/>
                </a:solidFill>
                <a:uFillTx/>
                <a:latin typeface="Tahoma"/>
              </a:rPr>
              <a:t>Članak 125. Zakona o proračunu</a:t>
            </a:r>
            <a:r>
              <a:rPr b="0" lang="hr-HR" sz="2200" spc="-1" strike="noStrike">
                <a:solidFill>
                  <a:srgbClr val="6b6bcf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25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rebuchet MS"/>
              </a:rPr>
              <a:t>Novčanom kaznom u iznosu od 50 do 100.000,00 kuna kaznit će se za prekršaj odgovorna osoba proračuna i proračunskog korisnika: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rebuchet MS"/>
              </a:rPr>
              <a:t>- ako proračunski korisnik preuzme obveze na teret DP suprotno čl.44. st.1.  Zakona o proračunu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hr-HR" sz="1700" spc="-1" strike="noStrike">
                <a:solidFill>
                  <a:srgbClr val="000000"/>
                </a:solidFill>
                <a:latin typeface="Trebuchet MS"/>
              </a:rPr>
              <a:t>-  ako proračunski korisnik preuzme obveze po ugovorima koji zahtijevaju plaćanje u slijedećim godinama suprotno čl. 44.st.2. Zakona o proračun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92720" y="1483920"/>
            <a:ext cx="7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Članak 44. Zakona o proračunu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Ovlašteni predstavnici naručitelj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99640" y="1196640"/>
            <a:ext cx="3956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Važeći” Zak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luka o početku postupkOvlašteni predstavnici naručiteljaa JN obvezno sadrži podatke 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vlaštenim predstavnicima javnog naručitelja u postupku javne nabav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8320" y="1196640"/>
            <a:ext cx="3956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Tahoma"/>
              </a:rPr>
              <a:t>Novi Zak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500" spc="-1" strike="noStrike">
                <a:solidFill>
                  <a:srgbClr val="333399"/>
                </a:solidFill>
                <a:latin typeface="Tahoma"/>
              </a:rPr>
              <a:t>Naručitelj internom odlukom imenuje ovlaštene predstavnike i određuje njihove obveze i ovlasti u postupku J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hr-HR" sz="2200" spc="-1" strike="noStrike">
                <a:solidFill>
                  <a:srgbClr val="333399"/>
                </a:solidFill>
                <a:latin typeface="Tahoma"/>
              </a:rPr>
              <a:t>Naručitelji će u svakom postupku JN, čija je proc. vrijednost jednaka ili veća od 70.000,00 kn, morati imati najmanje jednog ovlaštenog predstavnika koji posjeduje važeći </a:t>
            </a:r>
            <a:r>
              <a:rPr b="1" lang="hr-HR" sz="2200" spc="-1" strike="noStrike">
                <a:solidFill>
                  <a:srgbClr val="333399"/>
                </a:solidFill>
                <a:latin typeface="Tahoma"/>
              </a:rPr>
              <a:t>certifikat u području J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zervirano mjesto podnožja 4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Plan nabav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28800" y="1142640"/>
            <a:ext cx="80294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Naručitelj donosi plan nabave za proračunsku ili poslovnu godinu koji sadrži najmanje sljedeće podatk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predmet nabave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evidencijski br. nabave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procijenjena vrijednost nabave, ako je poznata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. vrsta postupka, uključujući i postupak sklapanja ugovora o javnim uslugama iz Dodatka II.B Zakona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 podatak sklapa li se ugovor ili OS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. planirani početak postupka,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planirano trajanje ugovora ili OS-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00"/>
                </a:solidFill>
                <a:uFillTx/>
                <a:latin typeface="Tahoma"/>
              </a:rPr>
              <a:t>Javni naručitelj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bvezan je plan nabave (i sve izmjene i dopune plana) objaviti na internetskim stranicama u roku </a:t>
            </a:r>
            <a:r>
              <a:rPr b="1" lang="hr-HR" sz="2200" spc="-1" strike="noStrike">
                <a:solidFill>
                  <a:srgbClr val="000000"/>
                </a:solidFill>
                <a:latin typeface="Tahoma"/>
              </a:rPr>
              <a:t>60 dana </a:t>
            </a: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d dana donošenja proračuna/FP-a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ahoma"/>
              </a:rPr>
              <a:t>Obveza dostave podataka o internetskim stranicama na kojima je objavljen plan nab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357840" y="1357200"/>
            <a:ext cx="7164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zervirano mjesto podnožja 4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7056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Početak postupka javne nabav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388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l. 13.st.4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važećeg”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Čl. 23. “novoga” Zako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kona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Otvoreni, ograničen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tupak javn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pregovarački postupa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bave započin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prethodnom objavom, 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nošenjem odluk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atjecateljski dij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 početku postupk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započinju danom slanja poz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avne nabave”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za nadmet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Pregovarački postupak bez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prethodne objave  – dan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slanja poziva na pregovar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Postupak za usluge iz 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Dodatka II. B. – danom objave 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zahtjeva za prikupljanje ponu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zervirano mjesto podnožja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Stavljanje  na raspolaganje dokumentacije za nadmetanj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ažeći” Zakon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ovi Zakon, čl.31.1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otvorenom postupku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Od dana objave poziva 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ZN se šalje ili na drug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admetanje naručitelj 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čin stavlja 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obvezan DZN koja se odno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spolagan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mah, 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a otvoreni postup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jkasnije u roku od 3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neograničeno i u cijel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an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d dana kada 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elektronički staviti 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tražena pravodobno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6b6bcf"/>
                </a:solidFill>
                <a:latin typeface="Tahoma"/>
              </a:rPr>
              <a:t>raspolaganje u EO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-osim ako naručitelj n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 u="sng">
                <a:solidFill>
                  <a:srgbClr val="6b6bcf"/>
                </a:solidFill>
                <a:uFillTx/>
                <a:latin typeface="Tahoma"/>
              </a:rPr>
              <a:t>Iznimka od pravila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: za dijel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mogući neograničen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DZN, ako nije moguće iz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stup e-putem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tehničkih razloga – u pozivu 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navodi adresa gdje se DZN 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6b6bcf"/>
                </a:solidFill>
                <a:latin typeface="Tahoma"/>
              </a:rPr>
              <a:t>može dobiti/traž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4:46Z</dcterms:created>
  <dc:creator>Rnk</dc:creator>
  <dc:description/>
  <dc:language>en-US</dc:language>
  <cp:lastModifiedBy>Karmen Meić</cp:lastModifiedBy>
  <dcterms:modified xsi:type="dcterms:W3CDTF">2011-11-30T10:28:06Z</dcterms:modified>
  <cp:revision>398</cp:revision>
  <dc:subject/>
  <dc:title>Slide 1</dc:title>
</cp:coreProperties>
</file>